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3C4-AF9E-41FB-81AB-D011E3EC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891-9C38-40CF-A6E4-0F26819F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73A-31E6-4B32-8AAC-E8DB9E07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DCD-46AD-43A9-89A2-BD436B50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9F1-C29A-47CD-AABB-CBDFA1F8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C43-C493-4C6A-9668-8583926E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5DA-ABCE-4E88-8D39-8596C11C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738-9AE5-41BD-91D2-EDB12249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2AB-0C97-40CD-B8C6-C68DBE2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5DA-4AD6-4C87-827C-61759A7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05B-8552-4547-97EF-9E69745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F72-BE8D-44D1-A9CA-A4D17D2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D525-8D2F-4EA3-9F9D-351EAD3869F5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ickiblackwell.com/timer.html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ow can we contribu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 to a celebr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15" descr="Turkey for Thanksgivi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11600" y="19810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Thanksgiving USA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 306-3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51920" y="1599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e washed the dog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 washed the dog’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at mad him happ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at made him happ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in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you eat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a huge turkey on Thanksgiving Da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will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hot dogs and potato salad at the picnic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rls’ 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Make Introd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are talking with others, use a pleasant tone and listen careful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introduce people who have never met before, you should include their names and how you know them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f I want to introduce Jack and Jill, I’ll say, “Jack, this is my friend Jill.  Jill, this is my friend Jack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member to make eye contact and speak directly to the liste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special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Picture 17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is week we read about many celebrations.  Thanksgiving, Chinese New Year, and birthdays are all things to celebrate.  How can we add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_________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_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l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olid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 – i – da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a day when people celebrate something speci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sgiving is 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for people in the United States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f July is th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when we celebrate the birth of our count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it wasnt’ long befo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It wasn’t long befor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what fune they had.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What fun they had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ory te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assroom webpage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udent page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Taking Tes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ther Reading Quizz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Quiz # 90459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ctivities during a holiday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17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334120"/>
            <a:ext cx="48744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8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ed Link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828800" y="1981080"/>
          <a:ext cx="6781680" cy="441972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4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 on Brain P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od Gam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ly Turkey 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miles and Metapho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 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re's Buster?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ed Streaming Vide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n Two Vowels Go Walkin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deo cl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tween the L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ssword Puzz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 Picture Hu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 – tic –  i - pa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mething, you join i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girls always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cc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wen wants to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the singing contest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ate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oday we’ll learn about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words that also stand for the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sound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ai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a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y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 can blend longer words with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y dividing them into smaller chunks, or syllabl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a word or syllable ends with a single vowel, the vowel sound is usually long.  Read one syllable at a time and then blend them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 d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n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rebuchet MS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– o 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 – d – n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r – t - y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Word Reading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8640" y="1828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588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rch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Let Talk About Working Together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draw conclusions, we use what we know about real life and what we read to figure out more about the characters and what happens in the sto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Good readers ask themselves if their conclusions make sens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he dog had pant on his ta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had paint on hi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e wantted to wash it awa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He wanted to wash it awa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 nouns name more than one person, place, animal, or thing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me nouns change spelling when they become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ossessive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nou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(’) and –s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ingular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turkey’s tail  (one turkey, singula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(’)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lural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rabbits’ tails  (more than one rabbit, plural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appy the Dog’s party was fun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ll of his friend’s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All of his friends’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ermans’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Herman’s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d of one hor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horse’s he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s of two goa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goats’ le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e of one 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lion’s ma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nner of several anim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animals’ dinn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friends you would like to dine with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24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45820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a holiday celebration.  We will read about what a group of animals does on Thanksgiving day.  What do you usually do on Thanksgiv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we will read about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holi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elebr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e will read about what a group of animals does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hat do you usually do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ecor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 – o –rat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ke it as pretty as you c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y mom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y birthday cake with baseballs made of frost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Thanksgiving dinner table with little turkeys we made out of pap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anque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 - qu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 very special din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r school held a special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gym for all the paren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was an award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t the end of the season for all the team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lar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flames or lights briefly and unsteadi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ampfir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before it went o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d struck a match to light the birthday candles, and they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quick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ick out the words with a long a sound in “A Party Plan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733920" y="2133720"/>
          <a:ext cx="5105160" cy="435456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e will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rais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wait to play over the holi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ai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ver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holi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 means using what you know about real life and what you read to figure out something about the characters and what happens in a sto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 you read, look for clues that will help you draw sensible conclu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nk about what you know in real life to help you draw conclusions about the story you’re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you visualize something, you can picture it in your mi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ying attention to how something is described can help readers to imagine it and understand what they r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sk youself these questions as you read “A Turkey for Thanksgiving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can I picture what is happening as I re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do the pictures in my mind remind me of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words help me imagine what is being describe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5530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00600" y="2057400"/>
          <a:ext cx="4038480" cy="44434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anksgiving – a holiday for giving than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oves – the hard bottom part of the feet of animals such as moose, deer, horses, and shee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verbank – the rising ground beside a ri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umbered – moved slowly and awkwar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__________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______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____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Big Question:</a:t>
            </a: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How can we contribute to a celebr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720" y="2666880"/>
            <a:ext cx="434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dog askked the cat for help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asked the cat for hel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told the dog to wai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possessive noun.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and –s when the noun is singul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when the noun is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you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vorite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19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45820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contributed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ontribut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mil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 - mer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n unsteady light. Something that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hines with an unsteady lig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s twinkled and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ark night sk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saw 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f light down the pa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ispe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 – per - y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i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sounds like a whisper with a soft, rustling sou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blowing snow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gainst the window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nd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ead leaves of the tre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pleasant time when people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leasan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ime whe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1828800"/>
          <a:ext cx="8610480" cy="48290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_____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____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____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_____.  Then she came back into the room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____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____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“A new puppy!” she squealed.  “Let’s go show ____!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l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used descriptive writing to help readers picture different characters and scen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type of descriptive writing in the story is the use of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imil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or comparisons between two unlike things using the words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. Moose’s smile was as bright as the su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urkey cried like a bab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eep was farther up the hillside, looking round as a fur ball in his winter coa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 them a crow hung, black as a puff of wood smok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find the so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found the soa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’es a sma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’s a smar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 show ownership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ke of one gir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girl’s bi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ooks of two boy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wo boys’ boo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holiday celebration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18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learn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ake Introduc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was scared when I got lost in the park and forgot my way back to May’s quaint far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ach day I shall wait by the sign to watch the birds perch on the birdba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 I wait for the daily train with all the 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e day I will probably be an artist or ride hors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uring the holidays I bought a purse, a shirt, and a darling ski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the day is pleasant, I sit on the porch before dar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40:58Z</dcterms:modified>
  <cp:revision>25</cp:revision>
  <dc:subject/>
  <dc:title>Slide 1</dc:title>
</cp:coreProperties>
</file>